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15378"/>
        <c:axId val="68259647"/>
      </c:barChart>
      <c:catAx>
        <c:axId val="355153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59647"/>
        <c:crosses val="autoZero"/>
        <c:auto val="1"/>
        <c:lblAlgn val="ctr"/>
        <c:lblOffset val="100"/>
        <c:noMultiLvlLbl val="0"/>
      </c:catAx>
      <c:valAx>
        <c:axId val="68259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153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8610-7BF1-46F4-8C1E-E7567CFC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077-664A-4E4F-9D86-ECE4B207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5E3-418D-4BE7-8DC7-B9D86F5F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276-C899-47A4-8087-CE248B42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3C6-D927-41DC-A307-91E1C412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53A-A109-4B92-9CE3-3478A3AB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499-83E8-4041-AB69-46AE9CF4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796-2EAC-4975-813D-A128DF82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C90-05D2-40DE-BFAC-996B0E19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993-C675-4750-8F39-DA615EA1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99F2-65EC-4B6D-9A65-9E0720EB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13B-EF64-4AAD-9798-0CAC0E62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51D12-DF9F-41FE-A1EA-F14F34010A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