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04124"/>
        <c:axId val="15776496"/>
      </c:barChart>
      <c:catAx>
        <c:axId val="52104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6496"/>
        <c:crosses val="autoZero"/>
        <c:auto val="1"/>
        <c:lblAlgn val="ctr"/>
        <c:lblOffset val="100"/>
        <c:noMultiLvlLbl val="0"/>
      </c:catAx>
      <c:valAx>
        <c:axId val="15776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4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FA0-5916-4807-9F16-70D25A70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FD5-F492-49C3-9E0B-A64772B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E33-251B-4319-8A0B-A45A9A28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D46-1149-4D88-A31D-9372A5E5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10A-7535-47E3-9588-CA18B648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87B-8905-4C7F-B840-0ACA1A8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EF2-7881-4B81-9D55-93309404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00E-AAFE-4132-9620-760D813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58D-1F37-4199-9DDE-55D18A5D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A46-9C3A-4B09-8215-C0AF8995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7D8-9A7C-4D8F-B78E-7D41342D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749-8DBA-42EF-9CED-92DE6FF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56D56-2580-41D7-8A44-9CCE337956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