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68472"/>
        <c:axId val="86026176"/>
      </c:barChart>
      <c:catAx>
        <c:axId val="56968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26176"/>
        <c:crosses val="autoZero"/>
        <c:auto val="1"/>
        <c:lblAlgn val="ctr"/>
        <c:lblOffset val="100"/>
        <c:noMultiLvlLbl val="0"/>
      </c:catAx>
      <c:valAx>
        <c:axId val="86026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68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95F-B7C4-4019-91B2-5E8ADC56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5E2-FB83-4731-9D25-46A87F83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480-A61B-415B-A243-1A5DC214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15A-E8DB-4A2E-914F-19B4B0D4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A3B-D40B-4B3B-B621-D787F5C8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AFB-FAA3-4850-BD4F-3A9FFEE5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386-7BB9-4485-986D-CA23412C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AB5-599A-4075-B5FB-6187C9C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287-3014-4543-A5D7-D0E71F89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9EB-B2C5-408C-9D86-9D4D6793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829-6E86-45FF-B04C-AB860A9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249-9A18-48CF-B50A-36EA842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FF81D-A3B1-4B76-AE18-F6153B6B1F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